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8E4-E1BF-46FC-A8D0-A730DCA1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43A-0A22-43A0-8A4D-8375A78B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562-0673-4DC4-AC66-8E966EB0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5B1-0943-4F3B-A82E-56A11CD5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4EDA-25CC-44EC-A2FB-9ED5B710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10BD-C97F-4524-A7E5-773FFBD6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72FF-15A6-422A-B98E-C3A9F25A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DD5C-8FB2-4C1D-8542-93DB7C98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F172-424C-4287-9C7F-966D378E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6DEB-1413-4F49-A44B-F9C907D5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B23F-99A1-4FC0-B95D-1C79F9DF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94A-3544-4FCE-AA4E-7CE3A8C7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CDE3-5E6E-4BEC-A46A-CC314863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A1F5-19DE-48BC-B505-7F747E89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AB86-E2A0-48A5-AF06-4AA6556F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7986-8E81-4E8F-9C81-376A492E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8996-81DE-4120-A780-D9B49CCC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8E2-F26A-43B1-85C5-913BAD3F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D1D-064E-4A9F-AC3C-AF87637B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C9A-F2CB-4958-BBA9-4EC3501C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AE0-39FE-45D0-B934-71C10D4A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8BE-D72A-46B0-837E-F6DCAE3F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F4F-8174-47E6-B78A-C865DA3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DAA-AAFD-43ED-B9F5-6B8170F8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D486-D29C-48CA-9570-2576C7970E3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0C8A-DD23-48C1-AE6B-AACA6C05B49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bcbcb"/>
                </a:solidFill>
                <a:latin typeface="宋体"/>
              </a:rPr>
              <a:t>Microsoft .NET </a:t>
            </a:r>
            <a:r>
              <a:rPr b="1" lang="zh-CN" sz="4400" spc="-1" strike="noStrike">
                <a:solidFill>
                  <a:srgbClr val="cbcbcb"/>
                </a:solidFill>
                <a:latin typeface="宋体"/>
              </a:rPr>
              <a:t>介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智能设备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利用软件使智能设备能够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使用，包括：笔记本电脑、移动电话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用户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网络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信息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其它的设备支持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软件和服务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R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TS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 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S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 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Language Runtime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语言运行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Type System -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类型系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Language Specification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语言规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ntermediate Language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间语言，也叫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MSI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R &amp; 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66688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B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50532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C#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434340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C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25780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其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2590920"/>
            <a:ext cx="914400" cy="3124080"/>
          </a:xfrm>
          <a:prstGeom prst="rect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编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8954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65760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4956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48640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590920"/>
            <a:ext cx="2819160" cy="3124080"/>
          </a:xfrm>
          <a:prstGeom prst="rect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6720"/>
            <a:ext cx="1904760" cy="1904760"/>
          </a:xfrm>
          <a:prstGeom prst="ellipse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编译成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19112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公共语言运行库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-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CL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209680"/>
            <a:ext cx="7467480" cy="4343400"/>
          </a:xfrm>
          <a:prstGeom prst="rect">
            <a:avLst/>
          </a:prstGeom>
          <a:gradFill rotWithShape="0">
            <a:gsLst>
              <a:gs pos="0">
                <a:srgbClr val="174617"/>
              </a:gs>
              <a:gs pos="100000">
                <a:srgbClr val="339933"/>
              </a:gs>
            </a:gsLst>
            <a:lin ang="5400000"/>
          </a:gra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808600"/>
            <a:ext cx="6705720" cy="620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类加载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lass 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4816440"/>
            <a:ext cx="6705720" cy="868320"/>
            <a:chOff x="1066680" y="4816440"/>
            <a:chExt cx="6705720" cy="868320"/>
          </a:xfrm>
        </p:grpSpPr>
        <p:sp>
          <p:nvSpPr>
            <p:cNvPr id="132" name=""/>
            <p:cNvSpPr/>
            <p:nvPr/>
          </p:nvSpPr>
          <p:spPr>
            <a:xfrm>
              <a:off x="1066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中间语言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二进制编译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代码管理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8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垃圾收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Garb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ollec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066680" y="4195800"/>
            <a:ext cx="6705720" cy="495360"/>
            <a:chOff x="1066680" y="4195800"/>
            <a:chExt cx="6705720" cy="495360"/>
          </a:xfrm>
        </p:grpSpPr>
        <p:sp>
          <p:nvSpPr>
            <p:cNvPr id="136" name=""/>
            <p:cNvSpPr/>
            <p:nvPr/>
          </p:nvSpPr>
          <p:spPr>
            <a:xfrm>
              <a:off x="1066680" y="4195800"/>
              <a:ext cx="3276720" cy="4953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安全引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4195800"/>
              <a:ext cx="3276720" cy="4953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调试引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066680" y="3575160"/>
            <a:ext cx="6705720" cy="496800"/>
            <a:chOff x="1066680" y="3575160"/>
            <a:chExt cx="6705720" cy="496800"/>
          </a:xfrm>
        </p:grpSpPr>
        <p:sp>
          <p:nvSpPr>
            <p:cNvPr id="139" name=""/>
            <p:cNvSpPr/>
            <p:nvPr/>
          </p:nvSpPr>
          <p:spPr>
            <a:xfrm>
              <a:off x="1066680" y="3575160"/>
              <a:ext cx="3276720" cy="4968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类型检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95680" y="3575160"/>
              <a:ext cx="3276720" cy="4968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异常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66680" y="2954160"/>
            <a:ext cx="6705720" cy="497160"/>
            <a:chOff x="1066680" y="2954160"/>
            <a:chExt cx="6705720" cy="497160"/>
          </a:xfrm>
        </p:grpSpPr>
        <p:sp>
          <p:nvSpPr>
            <p:cNvPr id="142" name=""/>
            <p:cNvSpPr/>
            <p:nvPr/>
          </p:nvSpPr>
          <p:spPr>
            <a:xfrm>
              <a:off x="1066680" y="2954160"/>
              <a:ext cx="3276720" cy="4971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线程支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2954160"/>
              <a:ext cx="3276720" cy="4971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OM Marsha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066680" y="2395440"/>
            <a:ext cx="6705720" cy="4352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支持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ase Clas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基于开放标准的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562720" y="1905120"/>
            <a:ext cx="990360" cy="4659120"/>
            <a:chOff x="5562720" y="1905120"/>
            <a:chExt cx="990360" cy="4659120"/>
          </a:xfrm>
        </p:grpSpPr>
        <p:pic>
          <p:nvPicPr>
            <p:cNvPr id="149" name="" descr=""/>
            <p:cNvPicPr/>
            <p:nvPr/>
          </p:nvPicPr>
          <p:blipFill>
            <a:blip r:embed="rId1">
              <a:lum bright="-12000"/>
            </a:blip>
            <a:srcRect l="63164" t="26992" r="16842" b="5071"/>
            <a:stretch/>
          </p:blipFill>
          <p:spPr>
            <a:xfrm>
              <a:off x="5562720" y="1905120"/>
              <a:ext cx="990360" cy="46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rot="5400000">
              <a:off x="4608360" y="3929400"/>
              <a:ext cx="266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isual Studio .NE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2"/>
          <a:srcRect l="8853" t="26671" r="35834" b="5071"/>
          <a:stretch/>
        </p:blipFill>
        <p:spPr>
          <a:xfrm>
            <a:off x="533520" y="1828800"/>
            <a:ext cx="5057640" cy="468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30960" y="5908680"/>
            <a:ext cx="630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9400" y="5440320"/>
            <a:ext cx="7538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8840" y="4863960"/>
            <a:ext cx="26953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ase Class Libr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3280" y="4297320"/>
            <a:ext cx="20264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ta and X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58680" y="3289320"/>
            <a:ext cx="1570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ML We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7680" y="3733920"/>
            <a:ext cx="2337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ndows For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66360" y="3144960"/>
            <a:ext cx="1701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b For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4880" y="2577960"/>
            <a:ext cx="4604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on Language Specific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6520" y="2009880"/>
            <a:ext cx="567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0760" y="2009880"/>
            <a:ext cx="708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+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30600" y="2009880"/>
            <a:ext cx="537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#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2400" y="1981080"/>
            <a:ext cx="459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21400" y="5421240"/>
            <a:ext cx="3889080" cy="987480"/>
            <a:chOff x="4721400" y="5421240"/>
            <a:chExt cx="3889080" cy="98748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rcRect l="50002" t="72920" r="7464" b="10627"/>
            <a:stretch/>
          </p:blipFill>
          <p:spPr>
            <a:xfrm>
              <a:off x="4721400" y="5421240"/>
              <a:ext cx="3889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010640" y="5625360"/>
              <a:ext cx="1000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已递交到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ECM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276720" y="1600200"/>
            <a:ext cx="5400360" cy="923760"/>
            <a:chOff x="3276720" y="1600200"/>
            <a:chExt cx="5400360" cy="92376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rcRect l="36670" t="23332" r="4550" b="60422"/>
            <a:stretch/>
          </p:blipFill>
          <p:spPr>
            <a:xfrm>
              <a:off x="3276720" y="1600200"/>
              <a:ext cx="540036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876000" y="1753920"/>
              <a:ext cx="1000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已递交到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ECM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10280" y="2449440"/>
            <a:ext cx="3520800" cy="943200"/>
            <a:chOff x="5210280" y="2449440"/>
            <a:chExt cx="3520800" cy="94320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rcRect l="58336" t="31112" r="4427" b="52227"/>
            <a:stretch/>
          </p:blipFill>
          <p:spPr>
            <a:xfrm>
              <a:off x="5210280" y="2449440"/>
              <a:ext cx="352080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178320" y="2639520"/>
              <a:ext cx="239040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开放的语言规范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232240" y="4535640"/>
            <a:ext cx="3416400" cy="1001520"/>
            <a:chOff x="5232240" y="4535640"/>
            <a:chExt cx="3416400" cy="1001520"/>
          </a:xfrm>
        </p:grpSpPr>
        <p:pic>
          <p:nvPicPr>
            <p:cNvPr id="174" name="" descr=""/>
            <p:cNvPicPr/>
            <p:nvPr/>
          </p:nvPicPr>
          <p:blipFill>
            <a:blip r:embed="rId6"/>
            <a:srcRect l="58336" t="31112" r="4427" b="52227"/>
            <a:stretch/>
          </p:blipFill>
          <p:spPr>
            <a:xfrm>
              <a:off x="5232240" y="4535640"/>
              <a:ext cx="341640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38040" y="4703760"/>
              <a:ext cx="1479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基于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的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数据存取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462840" y="2009880"/>
            <a:ext cx="11271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JScrip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19520" y="3352680"/>
            <a:ext cx="5821200" cy="981360"/>
            <a:chOff x="2819520" y="3352680"/>
            <a:chExt cx="5821200" cy="981360"/>
          </a:xfrm>
        </p:grpSpPr>
        <p:pic>
          <p:nvPicPr>
            <p:cNvPr id="178" name="" descr=""/>
            <p:cNvPicPr/>
            <p:nvPr/>
          </p:nvPicPr>
          <p:blipFill>
            <a:blip r:embed="rId7"/>
            <a:srcRect l="31667" t="38891" r="4672" b="45121"/>
            <a:stretch/>
          </p:blipFill>
          <p:spPr>
            <a:xfrm>
              <a:off x="2819520" y="3352680"/>
              <a:ext cx="582120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12840" y="3528720"/>
              <a:ext cx="15570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基于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XML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和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SOA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从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派生出来的一种简单的、面向对象的、并且是类型安全的现代编程语言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音为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sharp’)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牢固地根植于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族之树，将很快为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程序员所熟悉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帮助开发者将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isual Basi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高生产率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直接控制能力结合起来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(Managed)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应用程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代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代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框架为运行在其上的程序提供了几个核心的运行服务—例如异常处理和安全性。为使这些服务能工作，代码必须提供运行时的最低程度的一些信息。这样的代码被称为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有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VB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JScript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默认都是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V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默认不是托管的代码，但能通过命令行开关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/com+)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编译器产生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数据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指由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运行库的垃圾收集器分配和回收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B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JScript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数据总是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数据默认不是托管的数据，即使使用了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com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开关，但可以使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__g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关键字将其指定为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常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anaged Extensions (ME)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范畴中涉及。使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E 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，可以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gc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关键字将其指定为托管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该类的实例所占用的内存由垃圾收集器管理，并且还成为了完全的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团体的成员，同时带来了好处和限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好处之一：获得了与其它语言编写的类之间的互操作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限制之一：托管的类只能从一个基类继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 Web Serv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XML Web Service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什么需要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 Web Servi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什么是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 Web Servi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OAP – Simple Object Access Protoc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SDL – Web Service Description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UDDI –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布、寻找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XML Web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什么是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XML Web Service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能够使用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XML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消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过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网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来访问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Interf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这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描述了一组可访问的操作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OAP+WSD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包装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适应松散耦合的网络环境，可通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访问，手段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OAP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服务的行为、输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输出都可使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SD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描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33720" y="4800600"/>
            <a:ext cx="5297760" cy="1731960"/>
            <a:chOff x="2133720" y="4800600"/>
            <a:chExt cx="5297760" cy="1731960"/>
          </a:xfrm>
        </p:grpSpPr>
        <p:sp>
          <p:nvSpPr>
            <p:cNvPr id="199" name=""/>
            <p:cNvSpPr/>
            <p:nvPr/>
          </p:nvSpPr>
          <p:spPr>
            <a:xfrm>
              <a:off x="2133720" y="4805280"/>
              <a:ext cx="2016000" cy="17272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6800" y="5021280"/>
              <a:ext cx="1368360" cy="12970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6800" y="5308560"/>
              <a:ext cx="19479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140000">
              <a:off x="3137760" y="546696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terf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99760" y="528624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Verdana"/>
                </a:rPr>
                <a:t>Invo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7080" y="4800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SO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010040" y="5855760"/>
              <a:ext cx="1512720" cy="3603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8000" y="5927760"/>
              <a:ext cx="104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WSD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41600">
              <a:off x="4079160" y="59850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Verdana"/>
                </a:rPr>
                <a:t>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3240" y="497052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Verdana"/>
                </a:rPr>
                <a:t>Serv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Verdana"/>
                </a:rPr>
                <a:t>Reques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XML Web Services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运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0" y="4648320"/>
            <a:ext cx="4724280" cy="1366560"/>
            <a:chOff x="2286000" y="4648320"/>
            <a:chExt cx="4724280" cy="1366560"/>
          </a:xfrm>
        </p:grpSpPr>
        <p:sp>
          <p:nvSpPr>
            <p:cNvPr id="211" name=""/>
            <p:cNvSpPr/>
            <p:nvPr/>
          </p:nvSpPr>
          <p:spPr>
            <a:xfrm>
              <a:off x="2286000" y="4648320"/>
              <a:ext cx="4724280" cy="1366560"/>
            </a:xfrm>
            <a:prstGeom prst="rect">
              <a:avLst/>
            </a:prstGeom>
            <a:solidFill>
              <a:srgbClr val="a7d2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5680" y="4694400"/>
              <a:ext cx="24969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那给我用用吧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(SOAP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75560" y="6181560"/>
            <a:ext cx="311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sign-Time or Dyna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6180120"/>
            <a:ext cx="118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3308400"/>
            <a:ext cx="4724280" cy="1230120"/>
            <a:chOff x="2133720" y="3308400"/>
            <a:chExt cx="4724280" cy="1230120"/>
          </a:xfrm>
        </p:grpSpPr>
        <p:sp>
          <p:nvSpPr>
            <p:cNvPr id="216" name=""/>
            <p:cNvSpPr/>
            <p:nvPr/>
          </p:nvSpPr>
          <p:spPr>
            <a:xfrm>
              <a:off x="2133720" y="3308400"/>
              <a:ext cx="4724280" cy="123012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66760" y="3326400"/>
              <a:ext cx="30884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你都有什么服务啊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? (WSDL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819520" y="3595680"/>
            <a:ext cx="4419360" cy="480960"/>
            <a:chOff x="2819520" y="3595680"/>
            <a:chExt cx="4419360" cy="48096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2819520" y="3595680"/>
              <a:ext cx="44193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277440" y="3719520"/>
              <a:ext cx="35092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http://yourservice.com/?WSD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981080" y="3917880"/>
            <a:ext cx="4343400" cy="511200"/>
            <a:chOff x="1981080" y="3917880"/>
            <a:chExt cx="4343400" cy="511200"/>
          </a:xfrm>
        </p:grpSpPr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1981080" y="391788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351160" y="4054320"/>
              <a:ext cx="242856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XML with service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描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819520" y="5110200"/>
            <a:ext cx="4419360" cy="482400"/>
            <a:chOff x="2819520" y="5110200"/>
            <a:chExt cx="4419360" cy="482400"/>
          </a:xfrm>
        </p:grpSpPr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2819520" y="5110200"/>
              <a:ext cx="44193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355200" y="5232960"/>
              <a:ext cx="32011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ttp://yourservice.com/svc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81080" y="5427720"/>
            <a:ext cx="4343400" cy="511200"/>
            <a:chOff x="1981080" y="5427720"/>
            <a:chExt cx="4343400" cy="511200"/>
          </a:xfrm>
        </p:grpSpPr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1981080" y="542772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2880" y="5563440"/>
              <a:ext cx="20995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ML/SOAP BO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238880" y="3368520"/>
            <a:ext cx="1676520" cy="2652840"/>
            <a:chOff x="7238880" y="3368520"/>
            <a:chExt cx="1676520" cy="2652840"/>
          </a:xfrm>
        </p:grpSpPr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7238880" y="3368520"/>
              <a:ext cx="1676520" cy="26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467480" y="4480560"/>
              <a:ext cx="122076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Web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Servi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16080" y="1982880"/>
            <a:ext cx="1676160" cy="4038480"/>
            <a:chOff x="316080" y="1982880"/>
            <a:chExt cx="1676160" cy="4038480"/>
          </a:xfrm>
        </p:grpSpPr>
        <p:pic>
          <p:nvPicPr>
            <p:cNvPr id="234" name="" descr=""/>
            <p:cNvPicPr/>
            <p:nvPr/>
          </p:nvPicPr>
          <p:blipFill>
            <a:blip r:embed="rId6"/>
            <a:stretch/>
          </p:blipFill>
          <p:spPr>
            <a:xfrm>
              <a:off x="316080" y="1982880"/>
              <a:ext cx="167616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43080" y="3520080"/>
              <a:ext cx="16239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Servic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客户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638680" y="6283440"/>
            <a:ext cx="685800" cy="120600"/>
          </a:xfrm>
          <a:prstGeom prst="rect">
            <a:avLst/>
          </a:prstGeom>
          <a:solidFill>
            <a:srgbClr val="a7d2a2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283440"/>
            <a:ext cx="685800" cy="122040"/>
          </a:xfrm>
          <a:prstGeom prst="rect">
            <a:avLst/>
          </a:prstGeom>
          <a:solidFill>
            <a:srgbClr val="777777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238880" y="2021040"/>
            <a:ext cx="1676520" cy="1144440"/>
            <a:chOff x="7238880" y="2021040"/>
            <a:chExt cx="1676520" cy="1144440"/>
          </a:xfrm>
        </p:grpSpPr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7238880" y="2021040"/>
              <a:ext cx="167652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467480" y="2502720"/>
              <a:ext cx="122076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UDD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286000" y="2001960"/>
            <a:ext cx="4724280" cy="1214280"/>
            <a:chOff x="2286000" y="2001960"/>
            <a:chExt cx="4724280" cy="1214280"/>
          </a:xfrm>
        </p:grpSpPr>
        <p:sp>
          <p:nvSpPr>
            <p:cNvPr id="242" name=""/>
            <p:cNvSpPr/>
            <p:nvPr/>
          </p:nvSpPr>
          <p:spPr>
            <a:xfrm>
              <a:off x="2286000" y="2001960"/>
              <a:ext cx="4724280" cy="121428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11600" y="2025720"/>
              <a:ext cx="1873080" cy="34668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查找服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819520" y="2357280"/>
            <a:ext cx="4419360" cy="481320"/>
            <a:chOff x="2819520" y="2357280"/>
            <a:chExt cx="4419360" cy="48132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tretch/>
          </p:blipFill>
          <p:spPr>
            <a:xfrm>
              <a:off x="2819520" y="2357280"/>
              <a:ext cx="441936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31760" y="2481480"/>
              <a:ext cx="23342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http://www.uddi.or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81080" y="2681280"/>
            <a:ext cx="4343400" cy="511200"/>
            <a:chOff x="1981080" y="2681280"/>
            <a:chExt cx="4343400" cy="511200"/>
          </a:xfrm>
        </p:grpSpPr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1981080" y="268128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501640" y="2816640"/>
              <a:ext cx="30042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链接到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DISCO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或者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WSDL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档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022640" y="1752480"/>
            <a:ext cx="184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SO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一种对象间的访问协议而不是一种新的对象技术，它与下面的协议类似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DCOM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RP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bject Remote Procedure Cal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对象远程过程调用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ORBA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GIOP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General Inter-ORB Protoco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通用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RB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间协议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Java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MI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emote Method Invocatio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远程方法调用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它们的区别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SOAP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不与具体的对象技术相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SOAP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基于标准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ernet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协议的、开放的、文本的协议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SOAP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消息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Request/Response Mess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ques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调用远端对象的某个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sponse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返回该方法运行后的输出结果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00000" y="3657600"/>
            <a:ext cx="7123320" cy="2658960"/>
            <a:chOff x="900000" y="3657600"/>
            <a:chExt cx="7123320" cy="2658960"/>
          </a:xfrm>
        </p:grpSpPr>
        <p:sp>
          <p:nvSpPr>
            <p:cNvPr id="256" name=""/>
            <p:cNvSpPr/>
            <p:nvPr/>
          </p:nvSpPr>
          <p:spPr>
            <a:xfrm>
              <a:off x="900000" y="3862440"/>
              <a:ext cx="2514600" cy="17733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User 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28600" y="4338720"/>
              <a:ext cx="1828800" cy="4777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246c"/>
                  </a:solidFill>
                  <a:latin typeface="Verdana"/>
                </a:rPr>
                <a:t>SOAP Requ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28600" y="4884840"/>
              <a:ext cx="1828800" cy="4777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246c"/>
                  </a:solidFill>
                  <a:latin typeface="Verdana"/>
                </a:rPr>
                <a:t>SOAP Respon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08720" y="3657600"/>
              <a:ext cx="2514600" cy="26589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ervice Provider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08720" y="4611600"/>
              <a:ext cx="228600" cy="0"/>
            </a:xfrm>
            <a:prstGeom prst="line">
              <a:avLst/>
            </a:prstGeom>
            <a:ln w="5724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7400" y="4611600"/>
              <a:ext cx="457200" cy="0"/>
            </a:xfrm>
            <a:prstGeom prst="line">
              <a:avLst/>
            </a:prstGeom>
            <a:ln w="5724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14600" y="4611600"/>
              <a:ext cx="2094120" cy="0"/>
            </a:xfrm>
            <a:prstGeom prst="line">
              <a:avLst/>
            </a:prstGeom>
            <a:ln w="57240">
              <a:solidFill>
                <a:srgbClr val="cbcb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57400" y="5089680"/>
              <a:ext cx="457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8720" y="474804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414600" y="4730400"/>
              <a:ext cx="2167200" cy="35892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37320" y="4429080"/>
              <a:ext cx="1981080" cy="13003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246c"/>
                  </a:solidFill>
                  <a:latin typeface="Verdana"/>
                </a:rPr>
                <a:t>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246c"/>
                  </a:solidFill>
                  <a:latin typeface="Verdana"/>
                </a:rPr>
                <a:t>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什么是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微软提供的下一代的互联网技术的统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微软的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服务平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包含了建立和运行基于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软件所需要的全部部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以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+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为核心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以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为核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SOAP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消息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SOAP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义了一个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envelope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velope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包装消息自身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消息可以采用自身特定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词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amesp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来区分彼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114800" y="4208400"/>
            <a:ext cx="1923480" cy="1926000"/>
            <a:chOff x="4114800" y="4208400"/>
            <a:chExt cx="1923480" cy="1926000"/>
          </a:xfrm>
        </p:grpSpPr>
        <p:sp>
          <p:nvSpPr>
            <p:cNvPr id="270" name=""/>
            <p:cNvSpPr/>
            <p:nvPr/>
          </p:nvSpPr>
          <p:spPr>
            <a:xfrm>
              <a:off x="4114800" y="5202360"/>
              <a:ext cx="1795320" cy="901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4660920"/>
              <a:ext cx="1795320" cy="54144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939000">
              <a:off x="4633920" y="4343400"/>
              <a:ext cx="1216080" cy="15620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Verdana"/>
                </a:rPr>
                <a:t>Mess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4935600" y="5113440"/>
              <a:ext cx="885600" cy="1063440"/>
            </a:xfrm>
            <a:prstGeom prst="triangle">
              <a:avLst>
                <a:gd name="adj" fmla="val 44843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5202360"/>
              <a:ext cx="1795320" cy="901440"/>
            </a:xfrm>
            <a:prstGeom prst="triangle">
              <a:avLst>
                <a:gd name="adj" fmla="val 0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06240" y="5735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Verdana"/>
                </a:rPr>
                <a:t>Envelo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945800" y="4267080"/>
            <a:ext cx="2702160" cy="1911600"/>
            <a:chOff x="1945800" y="4267080"/>
            <a:chExt cx="2702160" cy="1911600"/>
          </a:xfrm>
        </p:grpSpPr>
        <p:grpSp>
          <p:nvGrpSpPr>
            <p:cNvPr id="277" name=""/>
            <p:cNvGrpSpPr/>
            <p:nvPr/>
          </p:nvGrpSpPr>
          <p:grpSpPr>
            <a:xfrm>
              <a:off x="1945800" y="5353200"/>
              <a:ext cx="2228040" cy="825480"/>
              <a:chOff x="1945800" y="5353200"/>
              <a:chExt cx="2228040" cy="825480"/>
            </a:xfrm>
          </p:grpSpPr>
          <p:sp>
            <p:nvSpPr>
              <p:cNvPr id="278" name=""/>
              <p:cNvSpPr/>
              <p:nvPr/>
            </p:nvSpPr>
            <p:spPr>
              <a:xfrm>
                <a:off x="3048480" y="5634360"/>
                <a:ext cx="1125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45800" y="5353200"/>
                <a:ext cx="99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</a:rPr>
                  <a:t>SOA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词汇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33960" y="4267080"/>
              <a:ext cx="2214000" cy="825480"/>
              <a:chOff x="2433960" y="4267080"/>
              <a:chExt cx="2214000" cy="82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3406320" y="4557240"/>
                <a:ext cx="1241640" cy="292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33960" y="4267080"/>
                <a:ext cx="729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自定义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词汇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实现互联网上的互操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1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有的远程访问协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采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W3C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标准，真正的与平台无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不受现有的代理和防火墙的限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可以利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HTTP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验证模式，支持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(SS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10800000">
            <a:off x="6856920" y="3874680"/>
            <a:ext cx="1523880" cy="2171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27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590400" y="3913200"/>
            <a:ext cx="1524240" cy="2171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27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5626080"/>
            <a:ext cx="3674880" cy="365040"/>
          </a:xfrm>
          <a:prstGeom prst="rect">
            <a:avLst/>
          </a:prstGeom>
          <a:gradFill rotWithShape="0">
            <a:gsLst>
              <a:gs pos="0">
                <a:srgbClr val="008e71"/>
              </a:gs>
              <a:gs pos="50000">
                <a:srgbClr val="00ffcc"/>
              </a:gs>
              <a:gs pos="100000">
                <a:srgbClr val="008e71"/>
              </a:gs>
            </a:gsLst>
            <a:lin ang="135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05040" y="5210280"/>
            <a:ext cx="3667320" cy="38088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3500000"/>
          </a:gra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(X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6006960"/>
            <a:ext cx="3674880" cy="365400"/>
          </a:xfrm>
          <a:prstGeom prst="rect">
            <a:avLst/>
          </a:prstGeom>
          <a:gradFill rotWithShape="0">
            <a:gsLst>
              <a:gs pos="0">
                <a:srgbClr val="5d5d5d"/>
              </a:gs>
              <a:gs pos="50000">
                <a:srgbClr val="cbcbcb"/>
              </a:gs>
              <a:gs pos="100000">
                <a:srgbClr val="5d5d5d"/>
              </a:gs>
            </a:gsLst>
            <a:lin ang="13500000"/>
          </a:grad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SS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665520"/>
            <a:ext cx="1904400" cy="681120"/>
            <a:chOff x="3505320" y="3665520"/>
            <a:chExt cx="1904400" cy="681120"/>
          </a:xfrm>
        </p:grpSpPr>
        <p:sp>
          <p:nvSpPr>
            <p:cNvPr id="291" name=""/>
            <p:cNvSpPr/>
            <p:nvPr/>
          </p:nvSpPr>
          <p:spPr>
            <a:xfrm>
              <a:off x="3683160" y="3832920"/>
              <a:ext cx="49320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72040" y="3665520"/>
              <a:ext cx="1237680" cy="681120"/>
            </a:xfrm>
            <a:prstGeom prst="rect">
              <a:avLst/>
            </a:prstGeom>
            <a:gradFill rotWithShape="0">
              <a:gsLst>
                <a:gs pos="0">
                  <a:srgbClr val="a85154"/>
                </a:gs>
                <a:gs pos="50000">
                  <a:srgbClr val="ff7c80"/>
                </a:gs>
                <a:gs pos="100000">
                  <a:srgbClr val="a85154"/>
                </a:gs>
              </a:gsLst>
              <a:lin ang="13500000"/>
            </a:gra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D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718800"/>
              <a:ext cx="205200" cy="21384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50000">
                  <a:srgbClr val="ff7c80"/>
                </a:gs>
                <a:gs pos="100000">
                  <a:srgbClr val="75393b"/>
                </a:gs>
              </a:gsLst>
              <a:lin ang="13500000"/>
            </a:gra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276720" y="4179960"/>
            <a:ext cx="1866600" cy="718920"/>
            <a:chOff x="3276720" y="4179960"/>
            <a:chExt cx="1866600" cy="718920"/>
          </a:xfrm>
        </p:grpSpPr>
        <p:sp>
          <p:nvSpPr>
            <p:cNvPr id="295" name=""/>
            <p:cNvSpPr/>
            <p:nvPr/>
          </p:nvSpPr>
          <p:spPr>
            <a:xfrm>
              <a:off x="3451320" y="4356720"/>
              <a:ext cx="48348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30120" y="4179960"/>
              <a:ext cx="1213200" cy="718920"/>
            </a:xfrm>
            <a:prstGeom prst="rect">
              <a:avLst/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3500000"/>
            </a:gra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SC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4236120"/>
              <a:ext cx="201240" cy="22572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3500000"/>
            </a:gra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computr1"/>
          <p:cNvSpPr/>
          <p:nvPr/>
        </p:nvSpPr>
        <p:spPr>
          <a:xfrm>
            <a:off x="1333440" y="4686480"/>
            <a:ext cx="1809720" cy="1809720"/>
          </a:xfrm>
          <a:prstGeom prst="pi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computr1"/>
          <p:cNvSpPr/>
          <p:nvPr/>
        </p:nvSpPr>
        <p:spPr>
          <a:xfrm>
            <a:off x="5943600" y="4648320"/>
            <a:ext cx="1809720" cy="1809720"/>
          </a:xfrm>
          <a:prstGeom prst="pi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UDD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相当于电话黄页或搜索引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加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推广、加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互操作能力而推出的一个计划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于标准的服务描述和发现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规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specifica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资源共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方式由多个运作者一起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形式运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UDD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业注册中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UB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UDDI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运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70000" y="2666880"/>
            <a:ext cx="990720" cy="0"/>
          </a:xfrm>
          <a:prstGeom prst="line">
            <a:avLst/>
          </a:prstGeom>
          <a:ln w="3816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79640" y="2133720"/>
            <a:ext cx="920520" cy="10634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151640" y="3049560"/>
            <a:ext cx="23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arbour Metals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通过本地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的 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ASP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创建了自身的站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5320" y="213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60720" y="2362320"/>
            <a:ext cx="2286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Tahoma"/>
              </a:rPr>
              <a:t>SydneyNe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27400" y="4495680"/>
            <a:ext cx="4743720" cy="1989000"/>
            <a:chOff x="4127400" y="4495680"/>
            <a:chExt cx="4743720" cy="198900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4127400" y="5333760"/>
              <a:ext cx="6937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161320" y="5653080"/>
              <a:ext cx="3709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Marketplace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和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search engine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查询了</a:t>
              </a:r>
              <a:br>
                <a:rPr sz="1600"/>
              </a:b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UBR, 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缓存了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Harbour Metal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的技术数据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889160" y="4495680"/>
              <a:ext cx="914400" cy="60948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48600" y="48751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3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8680" y="3352680"/>
            <a:ext cx="3646080" cy="2500560"/>
            <a:chOff x="328680" y="3352680"/>
            <a:chExt cx="3646080" cy="2500560"/>
          </a:xfrm>
        </p:grpSpPr>
        <p:sp>
          <p:nvSpPr>
            <p:cNvPr id="314" name=""/>
            <p:cNvSpPr/>
            <p:nvPr/>
          </p:nvSpPr>
          <p:spPr>
            <a:xfrm>
              <a:off x="393840" y="5029200"/>
              <a:ext cx="2590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客户和其他企业发现了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Harbour Metal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并开始与之进行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e-Commer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527560" y="3352680"/>
              <a:ext cx="914400" cy="152388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8680" y="45720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2527200" y="4876560"/>
              <a:ext cx="1447560" cy="45720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3"/>
          <a:srcRect l="0" t="19912" r="0" b="0"/>
          <a:stretch/>
        </p:blipFill>
        <p:spPr>
          <a:xfrm>
            <a:off x="5575320" y="2362320"/>
            <a:ext cx="3048120" cy="26064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346720" y="2666880"/>
            <a:ext cx="762120" cy="533520"/>
          </a:xfrm>
          <a:prstGeom prst="line">
            <a:avLst/>
          </a:prstGeom>
          <a:ln w="3816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57880" y="327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35320" y="4675320"/>
            <a:ext cx="24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ASP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将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Harbour Metals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注册进了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UB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09280" y="2971800"/>
            <a:ext cx="16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Tahoma"/>
              </a:rPr>
              <a:t>UDDI Regist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413400" y="3429000"/>
            <a:ext cx="609840" cy="685800"/>
            <a:chOff x="6413400" y="3429000"/>
            <a:chExt cx="609840" cy="685800"/>
          </a:xfrm>
        </p:grpSpPr>
        <p:sp>
          <p:nvSpPr>
            <p:cNvPr id="324" name=""/>
            <p:cNvSpPr/>
            <p:nvPr/>
          </p:nvSpPr>
          <p:spPr>
            <a:xfrm>
              <a:off x="6455160" y="3452400"/>
              <a:ext cx="304920" cy="36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86720" y="3429000"/>
              <a:ext cx="236520" cy="1494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28840" y="3594600"/>
              <a:ext cx="182880" cy="21240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60440" y="3831120"/>
              <a:ext cx="226080" cy="12996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76280" y="3984840"/>
              <a:ext cx="236520" cy="12996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65680" y="3890160"/>
              <a:ext cx="140760" cy="1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13400" y="3854880"/>
              <a:ext cx="140760" cy="1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869000" y="131760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arbour Metal,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黑体"/>
              </a:rPr>
              <a:t>澳洲的一家铸铁企业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SydneyNet.com,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澳洲的一个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UDDI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注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0" t="19912" r="0" b="0"/>
          <a:stretch/>
        </p:blipFill>
        <p:spPr>
          <a:xfrm>
            <a:off x="3063960" y="1882800"/>
            <a:ext cx="6197400" cy="4975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649760" y="2965320"/>
            <a:ext cx="2687760" cy="2478240"/>
          </a:xfrm>
          <a:prstGeom prst="ellipse">
            <a:avLst/>
          </a:prstGeom>
          <a:noFill/>
          <a:ln w="38160">
            <a:solidFill>
              <a:srgbClr val="cbcbc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57640" y="2805120"/>
            <a:ext cx="793800" cy="678960"/>
            <a:chOff x="5057640" y="2805120"/>
            <a:chExt cx="793800" cy="67896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13837" t="7748" r="6851" b="10425"/>
            <a:stretch/>
          </p:blipFill>
          <p:spPr>
            <a:xfrm>
              <a:off x="5057640" y="2823840"/>
              <a:ext cx="51408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474520" y="280512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86840" y="286560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910560" y="3371760"/>
            <a:ext cx="791640" cy="679320"/>
            <a:chOff x="6910560" y="3371760"/>
            <a:chExt cx="791640" cy="679320"/>
          </a:xfrm>
        </p:grpSpPr>
        <p:pic>
          <p:nvPicPr>
            <p:cNvPr id="340" name="" descr=""/>
            <p:cNvPicPr/>
            <p:nvPr/>
          </p:nvPicPr>
          <p:blipFill>
            <a:blip r:embed="rId3"/>
            <a:srcRect l="13837" t="7748" r="6851" b="10425"/>
            <a:stretch/>
          </p:blipFill>
          <p:spPr>
            <a:xfrm>
              <a:off x="6910560" y="3390480"/>
              <a:ext cx="51264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326360" y="3371760"/>
              <a:ext cx="262800" cy="6174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38320" y="3433320"/>
              <a:ext cx="263880" cy="61776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079880" y="3792600"/>
            <a:ext cx="793800" cy="678960"/>
            <a:chOff x="4079880" y="3792600"/>
            <a:chExt cx="793800" cy="678960"/>
          </a:xfrm>
        </p:grpSpPr>
        <p:pic>
          <p:nvPicPr>
            <p:cNvPr id="344" name="" descr=""/>
            <p:cNvPicPr/>
            <p:nvPr/>
          </p:nvPicPr>
          <p:blipFill>
            <a:blip r:embed="rId4"/>
            <a:srcRect l="13837" t="7748" r="6851" b="10425"/>
            <a:stretch/>
          </p:blipFill>
          <p:spPr>
            <a:xfrm>
              <a:off x="4079880" y="3811320"/>
              <a:ext cx="51408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4496760" y="379260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09080" y="385308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483240" y="4927680"/>
            <a:ext cx="792000" cy="681120"/>
            <a:chOff x="6483240" y="4927680"/>
            <a:chExt cx="792000" cy="681120"/>
          </a:xfrm>
        </p:grpSpPr>
        <p:pic>
          <p:nvPicPr>
            <p:cNvPr id="348" name="" descr=""/>
            <p:cNvPicPr/>
            <p:nvPr/>
          </p:nvPicPr>
          <p:blipFill>
            <a:blip r:embed="rId5"/>
            <a:srcRect l="13837" t="7748" r="6851" b="10425"/>
            <a:stretch/>
          </p:blipFill>
          <p:spPr>
            <a:xfrm>
              <a:off x="6483240" y="4946400"/>
              <a:ext cx="5130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899400" y="4927680"/>
              <a:ext cx="262800" cy="61884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11360" y="4989600"/>
              <a:ext cx="263880" cy="6192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641840" y="4854600"/>
            <a:ext cx="791640" cy="682200"/>
            <a:chOff x="4641840" y="4854600"/>
            <a:chExt cx="791640" cy="682200"/>
          </a:xfrm>
        </p:grpSpPr>
        <p:pic>
          <p:nvPicPr>
            <p:cNvPr id="352" name="" descr=""/>
            <p:cNvPicPr/>
            <p:nvPr/>
          </p:nvPicPr>
          <p:blipFill>
            <a:blip r:embed="rId6"/>
            <a:srcRect l="13837" t="7748" r="6851" b="10425"/>
            <a:stretch/>
          </p:blipFill>
          <p:spPr>
            <a:xfrm>
              <a:off x="4641840" y="4873320"/>
              <a:ext cx="512640" cy="4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057640" y="4854600"/>
              <a:ext cx="262800" cy="6192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9600" y="4916160"/>
              <a:ext cx="263880" cy="62064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68760" y="2541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45240" y="40989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Microso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17000" y="53020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H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35800" y="55134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Tahoma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67680" y="42400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Tahoma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80440" y="2400480"/>
            <a:ext cx="0" cy="9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699160" y="1905120"/>
            <a:ext cx="1139760" cy="849240"/>
          </a:xfrm>
          <a:prstGeom prst="line">
            <a:avLst/>
          </a:prstGeom>
          <a:ln w="38160">
            <a:solidFill>
              <a:srgbClr val="cbcbcb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57680" y="3795840"/>
            <a:ext cx="792000" cy="678960"/>
            <a:chOff x="5557680" y="3795840"/>
            <a:chExt cx="792000" cy="678960"/>
          </a:xfrm>
        </p:grpSpPr>
        <p:pic>
          <p:nvPicPr>
            <p:cNvPr id="363" name="" descr=""/>
            <p:cNvPicPr/>
            <p:nvPr/>
          </p:nvPicPr>
          <p:blipFill>
            <a:blip r:embed="rId7"/>
            <a:srcRect l="13837" t="7748" r="6851" b="10425"/>
            <a:stretch/>
          </p:blipFill>
          <p:spPr>
            <a:xfrm>
              <a:off x="5557680" y="3814560"/>
              <a:ext cx="51300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73840" y="3795840"/>
              <a:ext cx="2628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5800" y="3856320"/>
              <a:ext cx="26388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360040" y="43099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UDDI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7053120" y="1197000"/>
            <a:ext cx="648000" cy="1068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410160" y="2259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u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761840"/>
            <a:ext cx="3782880" cy="49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等结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(websit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商业实体可以在任意结点注册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不同的结点将会每天定期同步复制数据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在所有结点都会包含注册数据的全集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有的结点都支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UDD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规范中定义的整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OAP AP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由商业合同保证彼此的协作关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微软开发者成功之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体系架构设计高级培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战略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应用程序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应用程序之间是一种松散的关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以一种软件群的方式运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的组成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平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NET Framework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和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服务器基本结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Building Block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智能设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体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可使用于多种设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使用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XML Web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以用户为中心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服务器基本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要有以下一些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企业级服务器软件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indows 2000/X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pplication Cent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izTalk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ost Integration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obile Information 2001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QL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ilding Block Ser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由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提供的一个以用户为中心的架构和一组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即原来的冰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HailStorm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计划，现已改名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y Web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as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服务器间消息传递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件存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历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01:05:13Z</dcterms:created>
  <dc:creator>Hying.z</dc:creator>
  <dc:description/>
  <dc:language>en-US</dc:language>
  <cp:lastModifiedBy>Hying.z</cp:lastModifiedBy>
  <dcterms:modified xsi:type="dcterms:W3CDTF">2001-10-26T07:09:54Z</dcterms:modified>
  <cp:revision>203</cp:revision>
  <dc:subject/>
  <dc:title>Visual Studio.net</dc:title>
</cp:coreProperties>
</file>